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F91-3383-4089-9263-207F0669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16F-E5B3-4FCF-9B8E-9CA17AF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B0B-AEA6-4903-AC32-88CC7AF9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3B0-F5AC-4483-AD28-7CB4704C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FA6-3CD1-42AE-89C5-020C0EE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9DA-F538-4287-8558-DA99507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BC7-7D03-4F34-AF85-7175EB87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305-8A1E-42E9-A749-5E82AC5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AB1-129B-46ED-820C-74D5063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6D8-94FE-4173-A43E-C84175D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9E5-9E93-451E-953F-593A2B0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D00-2639-48B4-B135-19653F8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35D-64B9-47F4-A84F-A11DD7D7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1916280"/>
            <a:ext cx="58197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Can We Develop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Medicines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tar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y do some people argue against animal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y do others think animal testing is essent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at do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516720" cy="452592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designing a new medic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key expec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judge whether it is successful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219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060640"/>
            <a:ext cx="7201080" cy="305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cientists expect a new medicine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uccessfully taken into and remov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92280"/>
            <a:ext cx="7920000" cy="91692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1800"/>
            </a:b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516640"/>
            <a:ext cx="8137440" cy="459720"/>
          </a:xfrm>
          <a:prstGeom prst="rect">
            <a:avLst/>
          </a:prstGeom>
          <a:solidFill>
            <a:srgbClr val="930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an you explain what each of these statement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Page 70 shows a flow diagram which demonstrates the stages in the development of a new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Use the Title ‘Developing New Medicin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Draw a simplified version of this flow chart giving each box  a short heading (not more than 6 words)  This can be done using the worksheet which gives an ou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read the thalidomid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1775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00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alidomide time line sheet to transfer this story to you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now complete the summar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guments might you use to persuade an animal rights protester that animal testing might b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9:47:39Z</dcterms:created>
  <dc:creator>Pat</dc:creator>
  <dc:description/>
  <dc:language>en-US</dc:language>
  <cp:lastModifiedBy>sthalliwellp</cp:lastModifiedBy>
  <dcterms:modified xsi:type="dcterms:W3CDTF">2006-10-17T13:27:38Z</dcterms:modified>
  <cp:revision>3</cp:revision>
  <dc:subject/>
  <dc:title>Slide 1</dc:title>
</cp:coreProperties>
</file>